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B7F47-6D42-4D59-A508-2398C3B5D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C02C5-F410-407A-9FC3-6E276E280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1BA54-1B7C-4BB0-A9CF-3C83BBB01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BFEE3-BE1E-43BA-B36F-2F946842F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50A2C-A729-413B-A809-F6125C3ED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485C7-072B-4817-B01C-A1C7444AD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D7207-2CD5-4C29-A0DB-FE280C71B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BB26E-BFA7-4BC8-A74E-0E1AB5192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5F83B-4EE9-46EF-A889-0F62C6B4B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97368-1360-4B6E-AE10-802949BFD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72C1-1841-4213-8371-757867FB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843DD-5A48-4460-82E4-8F3DDFAD6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1D54-8CC0-4F32-9E5B-32C3F839A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7"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8" name="Picture 5" descr=""/>
          <p:cNvPicPr/>
          <p:nvPr/>
        </p:nvPicPr>
        <p:blipFill>
          <a:blip r:embed="rId1">
            <a:grayscl/>
          </a:blip>
          <a:stretch/>
        </p:blipFill>
        <p:spPr>
          <a:xfrm>
            <a:off x="5105520" y="1600200"/>
            <a:ext cx="1439640" cy="144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50"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3:0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